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0A3-97F6-40FA-BEBF-44805F08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843-67C3-4263-B888-61482DFB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D3D-6F73-49AB-8022-4FF893D2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DB7-1DA6-4367-B308-186C556B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72E-CD5F-4EB2-B49F-596F4826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E5B-BF1C-44A4-B6AD-FFFCA5DE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C84-2220-4025-8F15-B4F00F44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845-F1F1-433B-A6E7-39163E3E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208-E8B4-4E83-A256-D9A7FD26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C18-82BA-46E4-8442-CEAEADF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65D-2014-4B5B-A690-2B8FCDF1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942-AC6A-41EA-8DBA-65B2C2CA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F7AE-566A-4C09-BD44-E00178AB2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9640" y="404640"/>
            <a:ext cx="8059680" cy="290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Monotype Corsiva"/>
              </a:rPr>
              <a:t>В мире профессий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388764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356000" y="4581360"/>
            <a:ext cx="457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онова Елена Павл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ный руководитель 5 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Фразеологические обор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тричь под одну гребен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Шить на живую нит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рать на прице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Ждать у моря погод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гущать краск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грать первую скрип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86920" y="549360"/>
            <a:ext cx="61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ий много в мире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х невозможно пере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многие ну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интересны, и ва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ты скорее подрас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ией овладе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айся в деле перв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людям пользу принос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8229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2920" y="4005360"/>
            <a:ext cx="7058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 это всегда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аботе использован матери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festival.1september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mages.yandex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40464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У каждого дела запах особы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P8304932_0.tmp"/>
          <p:cNvPicPr/>
          <p:nvPr/>
        </p:nvPicPr>
        <p:blipFill>
          <a:blip r:embed="rId1"/>
          <a:stretch/>
        </p:blipFill>
        <p:spPr>
          <a:xfrm>
            <a:off x="5126040" y="1335240"/>
            <a:ext cx="4024440" cy="2651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-6480" y="1262160"/>
            <a:ext cx="2140200" cy="265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3"/>
          <a:stretch/>
        </p:blipFill>
        <p:spPr>
          <a:xfrm>
            <a:off x="-6480" y="3352680"/>
            <a:ext cx="2395800" cy="3511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P8304203_0.tmp"/>
          <p:cNvPicPr/>
          <p:nvPr/>
        </p:nvPicPr>
        <p:blipFill>
          <a:blip r:embed="rId4"/>
          <a:stretch/>
        </p:blipFill>
        <p:spPr>
          <a:xfrm>
            <a:off x="2548080" y="1695600"/>
            <a:ext cx="2408040" cy="354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5"/>
          <a:stretch/>
        </p:blipFill>
        <p:spPr>
          <a:xfrm>
            <a:off x="5608800" y="3998880"/>
            <a:ext cx="3541680" cy="286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6"/>
          <a:stretch/>
        </p:blipFill>
        <p:spPr>
          <a:xfrm>
            <a:off x="3773520" y="5267160"/>
            <a:ext cx="2316240" cy="159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7"/>
          <a:stretch/>
        </p:blipFill>
        <p:spPr>
          <a:xfrm>
            <a:off x="2475000" y="5413320"/>
            <a:ext cx="14317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Профессия</a:t>
            </a: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это основной род зан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P8302936_0.tmp"/>
          <p:cNvPicPr/>
          <p:nvPr/>
        </p:nvPicPr>
        <p:blipFill>
          <a:blip r:embed="rId1"/>
          <a:stretch/>
        </p:blipFill>
        <p:spPr>
          <a:xfrm>
            <a:off x="1182600" y="2341440"/>
            <a:ext cx="6345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Блок-схема: альтернативный процесс 3"/>
          <p:cNvSpPr/>
          <p:nvPr/>
        </p:nvSpPr>
        <p:spPr>
          <a:xfrm>
            <a:off x="2484360" y="404640"/>
            <a:ext cx="3816360" cy="936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оф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4"/>
          <p:cNvSpPr/>
          <p:nvPr/>
        </p:nvSpPr>
        <p:spPr>
          <a:xfrm>
            <a:off x="4284720" y="1628640"/>
            <a:ext cx="358560" cy="93672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5"/>
          <p:cNvSpPr/>
          <p:nvPr/>
        </p:nvSpPr>
        <p:spPr>
          <a:xfrm flipH="1" rot="19603200">
            <a:off x="6462360" y="1487520"/>
            <a:ext cx="289080" cy="93780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альтернативный процесс 9"/>
          <p:cNvSpPr/>
          <p:nvPr/>
        </p:nvSpPr>
        <p:spPr>
          <a:xfrm>
            <a:off x="684360" y="2924280"/>
            <a:ext cx="1942920" cy="93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 -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альтернативный процесс 10"/>
          <p:cNvSpPr/>
          <p:nvPr/>
        </p:nvSpPr>
        <p:spPr>
          <a:xfrm>
            <a:off x="3419640" y="2924280"/>
            <a:ext cx="1944360" cy="93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-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альтернативный процесс 11"/>
          <p:cNvSpPr/>
          <p:nvPr/>
        </p:nvSpPr>
        <p:spPr>
          <a:xfrm>
            <a:off x="6156360" y="2924280"/>
            <a:ext cx="1871640" cy="100944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- 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альтернативный процесс 12"/>
          <p:cNvSpPr/>
          <p:nvPr/>
        </p:nvSpPr>
        <p:spPr>
          <a:xfrm>
            <a:off x="1547640" y="4724280"/>
            <a:ext cx="2737080" cy="115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– художественный об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альтернативный процесс 13"/>
          <p:cNvSpPr/>
          <p:nvPr/>
        </p:nvSpPr>
        <p:spPr>
          <a:xfrm>
            <a:off x="4859280" y="4724280"/>
            <a:ext cx="2737080" cy="115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– знаков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6"/>
          <p:cNvSpPr/>
          <p:nvPr/>
        </p:nvSpPr>
        <p:spPr>
          <a:xfrm rot="1876800">
            <a:off x="2066400" y="1568160"/>
            <a:ext cx="319320" cy="97776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7"/>
          <p:cNvSpPr/>
          <p:nvPr/>
        </p:nvSpPr>
        <p:spPr>
          <a:xfrm>
            <a:off x="2916360" y="1773360"/>
            <a:ext cx="360360" cy="27352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18"/>
          <p:cNvSpPr/>
          <p:nvPr/>
        </p:nvSpPr>
        <p:spPr>
          <a:xfrm>
            <a:off x="5580000" y="1773360"/>
            <a:ext cx="360360" cy="27352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Угадай професс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ошка, шприц, лек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Зеркало, ножницы, расческа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Набор игл, ткань, нитки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Стопка ученических тетрадей, указка, классный журнал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орабль, бескозырка, море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Шланг, вода, костю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Зеркало, ножницы, расчес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исть, валик, ведро с краск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Поварешка, колпак белый, кастрюл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Мяч, кеды, фор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орова, ведро с молок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раски, кисть, карти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Автобус, билет, деньг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2" descr="P8303607_0.tmp"/>
          <p:cNvPicPr/>
          <p:nvPr/>
        </p:nvPicPr>
        <p:blipFill>
          <a:blip r:embed="rId1"/>
          <a:stretch/>
        </p:blipFill>
        <p:spPr>
          <a:xfrm>
            <a:off x="6227640" y="4365720"/>
            <a:ext cx="2741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Замени одним сло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первым узнает новости, а потом рассказывает их на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обучает животны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Летчик, который управляет космическим корабле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выполняет трюки вместо киноактер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много путешествует, находит горные породы, минерал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Врач, который лечит звер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чинит и изготавливает час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Люди, которые занимаются наук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создает компьютерные игры и программ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занимается изучением погод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Третий нужный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убы лечит: хирург, стоматолог, мед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орову доит: доярка, пастух, двор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м строит: маляр, строитель, слес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нег метёт: шофёр, лётчик, двор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тей учит: библиотекарь, нянечка, уч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Рубашки шьёт: швея, сапожник, часовщ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храняет границу: тракторист, пограничник, почталь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бывает уголь: художник, водитель, шахт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зови професс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сли мужчина – портной, то женщина – 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сли мужчина ткач, то женщину назовём -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ужчина художник, а женщина –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н спортсмен, она –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н актёр, она –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052960" y="378936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Кто так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Кому добавки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Какой зуб вас беспокои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Большое спасибо за покупк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Вам посылка, распишитесь»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В мою сеть попало много рыб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Тема сегодняшнего урока «Полезные ископаемы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Присаживайтесь, как будем стричься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9:01:33Z</dcterms:created>
  <dc:creator>Пользователь</dc:creator>
  <dc:description/>
  <dc:language>en-US</dc:language>
  <cp:lastModifiedBy>Пользователь</cp:lastModifiedBy>
  <dcterms:modified xsi:type="dcterms:W3CDTF">2011-05-23T18:50:38Z</dcterms:modified>
  <cp:revision>17</cp:revision>
  <dc:subject/>
  <dc:title>«В мире профессий….» (Внеклассное мероприятие в 5 классе)</dc:title>
</cp:coreProperties>
</file>